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578-12C7-42D4-B7C9-62A56731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634-4F5C-4468-AC66-04DDF34E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850-F129-463F-BCE6-19B1E71A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9B3-0F30-4211-AD8F-15426A96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0CA9-08D1-43A9-9A9A-46555BD5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B3BB-9C44-4154-A85C-38FD8376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FDC5-1C5D-49CA-B8BA-B2DB51E2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6D8A-BF89-4EFD-9461-486C069D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5EB1-C678-403C-B9D3-5280B8E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F029-0D53-4B37-8557-1FC421AE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D64-7423-41A4-A55D-6F0ADD61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FB6-4425-4E23-8037-F9DFA6F0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BC8-DE24-4C80-B387-A3AB2973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E0AD-D109-4197-8EA8-5D06D87E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9DD8-4643-40DC-8A33-1C9B4535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5303-FDCD-406C-BD8F-E71AC667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7C31-C60B-45EC-99E8-26BD4F9E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4C2-D130-4909-A251-CF3B2E1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054-8C71-4CB6-A059-C4C4041C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234-A2DA-4047-A810-0AB2398E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4A0-87DE-43E4-9E78-99DA2A84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965-344B-4A93-8E21-DA343DF2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E05-180C-4208-93AE-9D928CDA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DA2-5223-4B7B-8C41-2063874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EEB2-FF83-4A20-AA4B-4D9903E13F39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2E05-FA05-4E65-B54A-426F2C7BA8C7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D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Ė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MESYS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 ir ATMINTI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Užmiršimas priklauso nuo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siminimo tvirt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miršimą skatinančių veiksn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aikomos informacijos panaudojimo praktinėje veikloje: kuo mažiau naudojame, tuo greičiau užmiršta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nterferencija (proaktyvioji/retroaktyvioji) - informacijos persidengimas, susimaišy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rtojimo sto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tuacij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uostatos pasikeit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megenų pažeidim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gal informacijos laikymo trukmę atmintis skirstoma į: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Jutiminę/sensoninę atmintį (SA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Trumpalaikę atmintį (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Ilgalaikę atmintį (I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ATMIN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ties ger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dalinimas prasminiais gaba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ės prasmės suteikimas - vaizduotės pasitelkimas (asociaci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nagrinė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tyvus karto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ksl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teksto reikšmė (tos pačios aplinkybė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organ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ktikavimasis (atsimin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terferencijos maž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QRST metodas (medžiagos peržiūrėjimas, klausimai, skaitymas, pakartojimas s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sta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a – vis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kas ar dalinis atminties prara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taatmintis – savo paties atminties sistemos žinoj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Y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ėmesy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— savitas individo nervų sistemos mechanizmas, užtikrinantis jam efektyvų psichinės veiklos organizuotum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ėmesys – tai procesas, kuris leidžia išskirti objektus ar stimulus iš daugeli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objek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į ką sutelktas dėme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f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kas supa objekt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VEIKSN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- veiksniai, kurie skatina ar slopina dėmes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or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imulų intensyv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uj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palvin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išku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smenybės kryptingumas (poreikiai, interesai) ir su juo susiję veiklos tiksla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išankstinį dėmesio krypties pasirinki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nevalingas, valingas, savaimin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latu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elektyvus ir paskirsty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savyb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/koncentracija &lt; &gt; svyravimas, išse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var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apim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askirs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erkėlimas &lt; &gt; klamp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ng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TMINT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s – tai sugebėjimas įsiminti, laikyti ir po kiek laiko atgaminti gautą informacij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procesai: įsiminimas, saugojimas, atsiminimas. Užmirš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Įsimin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tai užkodavimas, suteikiant gautai informacijai formą ir įvedimas į atmint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Nevalingas (automatišk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ling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echaninis arba prasminis/semantin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Vaizdiniai (regimasis kodavim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nformacijos sutvarky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UŽMIRŠ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atminties procesas, dėl kurio suvoktos ir užkoduotos informacijos negalime prisimi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H.Ebbinghauso užmiršimo kreivė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49:57Z</dcterms:created>
  <dc:creator>TADAS</dc:creator>
  <dc:description/>
  <dc:language>en-US</dc:language>
  <cp:lastModifiedBy> </cp:lastModifiedBy>
  <dcterms:modified xsi:type="dcterms:W3CDTF">2007-10-24T20:22:40Z</dcterms:modified>
  <cp:revision>14</cp:revision>
  <dc:subject/>
  <dc:title>ATMINTIS IR DĖMESYS</dc:title>
</cp:coreProperties>
</file>